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2.png" ContentType="image/png"/>
  <Override PartName="/ppt/media/image46.png" ContentType="image/png"/>
  <Override PartName="/ppt/media/image35.png" ContentType="image/png"/>
  <Override PartName="/ppt/media/image5.jpeg" ContentType="image/jpeg"/>
  <Override PartName="/ppt/media/image11.png" ContentType="image/png"/>
  <Override PartName="/ppt/media/image48.png" ContentType="image/png"/>
  <Override PartName="/ppt/media/image13.png" ContentType="image/png"/>
  <Override PartName="/ppt/media/image36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9.gif" ContentType="image/gif"/>
  <Override PartName="/ppt/media/image39.png" ContentType="image/png"/>
  <Override PartName="/ppt/media/image9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546-D9C4-4CBE-B985-93EEFAE7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00C-A0B3-486E-A153-B2935F93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8779-3E9E-4F8F-86A6-62AAFD74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E75-EBF1-46E1-8668-E7ADDF28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42DC-C101-42ED-BDFB-E37B64F9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5620-090E-4166-A6BA-1B50CB4F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55C4-6F0E-44D6-BB56-41EC6FE6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DC9F-29C4-4467-BD6F-BBEFE848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2CDC-E188-4975-8141-64D313B9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0120-1831-4D3A-8F63-8DF7D759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9227-1CA4-4375-B502-E1CE2654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CB42-191C-453B-99FE-A1C99D0B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BE4E-47DA-4F69-814F-F6845685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4EE8-1C9D-4A30-AE42-792C8588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1D1C-C02F-4E28-AB50-A9E09046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E966-281C-4439-815B-3551E128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6B6D-D5A7-4191-8301-CA02B097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7C2BD-F31A-46C0-8BFA-1122DBCD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A0FA1-A1C3-4EEE-88A8-27BA22A4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676AD-B9DE-43C6-AA2E-E0601306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ADCC2-85E0-4128-A6E5-FE73E803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C7CB5-4EA5-4B2B-A3D7-A3051CDE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517F-BB7B-45D1-B671-E45BDE9B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29B01-1007-4DE3-A41B-B0DC9CEC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48433-2BC4-4298-8C1B-29CFFE7F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791A2-4536-412A-B994-3E0837C7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BC40B-6750-4C89-A231-AC024D1C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0EFDC-AC60-4CEC-A586-B9E7CAD7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5A5E2-28C5-42B9-B8A2-0F905194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2D5C5-2898-4E7E-8FB2-7D1B6DDF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E03CE-6C73-41B0-ACE8-CE417C99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7F436-2021-4798-A9C1-8B71F1A0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E6170-FE47-4F9D-B603-3F18924E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C78D-2BBD-4CA7-BE93-6B83BD23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ED403-A60F-46B5-BD5C-737B8AD9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F269F-A65B-45E4-9A8D-84EBCA91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E2883-1E15-41CE-81F8-1AD65EC6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1D022-50AE-4FDC-86DC-E48CAD7D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93651-78A0-4D85-8D30-7710F004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76229-CC48-4500-9E75-DD2BFC83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CE67F-0F4B-4221-903D-C0993F9C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F5880-0C90-4373-9D0A-C80AA75F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5FDC3-9C95-445A-8AC0-7A24F916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CCE1D-F183-4831-8B42-8AB8449F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16FD-0560-484D-B0D3-8BD2CAFC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5AC94-A448-4F1E-BD39-5FB0651F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C7710-F444-46CE-A138-591B8823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52533-E87D-4559-902A-358A0189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715A1-FBF3-446F-A3DD-8B44C505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45EE6-04A6-434F-9729-61244A01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889AB-315C-4B76-8C46-CE0C1159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BD465-85C7-455B-8CA0-2DE2ACE4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90822-DF9E-4DD2-A9AA-D9D36BF2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2B601-A688-4DF1-B8FC-048EDB29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10623-76F5-4EEE-B023-BE9B1E03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C78-34BB-469E-8C17-8F34260E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EF830-06E5-4F19-B48C-F72491E5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44EAA-6B1B-4E32-88E1-3F6E30BA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9C0A4-1A6C-4C9D-83F3-D5493DC9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3885D-57F9-49A2-8318-0CC13A48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72C60-5F19-4FD0-8E88-2E59C8A7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88BAB-7D68-4196-AA36-131D6DE0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85E31-19D8-458D-A934-3D615ADF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3EB2C-D0A1-46BD-B28A-B2446A11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F337F-69B2-43BF-B0BD-191199B1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95610-FBB6-425E-8C9F-1CE9C8FC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44A-13EB-4859-A0B6-D93A6C94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87BB7-8700-4604-8262-B019B83F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FD03D-AEAB-48CA-A0F7-CA858ED1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B00E2-92EA-4F24-B9E9-D6484A48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83250-4BC3-46E8-897C-E3A23188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0AE49-56BC-44C0-87E1-D3406C69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CDF90-FED6-4DE2-93B1-F8F2827D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51BA1-3060-4B8B-9043-15EC3ED8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ABF57-475E-46B0-A962-9373BDB1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20CD5-BEA4-4063-ADA8-0E61E512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13F6D-6DA7-42D7-90B6-1866EEC3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68F-CCF2-4694-B434-31AE64E0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27429-62F7-4A5E-98A0-070FBC83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869EF-17A0-438B-9B2F-BB92CA8E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11716-DE4C-4733-8C42-E806FA64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CFA5F-5963-49CC-ABE1-AF4C38FC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32F58-7746-4A88-8DF9-50E95117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42138-186C-48E2-9226-C7B0B082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91F24-46B4-4CE0-BA0A-240FD97A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64CFD-5FF7-4DD6-B015-6280FA69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BF851-4A93-4651-909B-821CF377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FECC1-D623-4457-A2C7-A2DABFF0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8B4-FA59-44F2-8000-98117F55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9C603-2C2E-4856-A3BF-60CB74AE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AF2CC-21CD-4FBA-BA37-EF4A31BB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7F9CC-E5C1-49CA-99B9-6E5CB50B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8BDD7-6EC1-4586-82DE-C4AADDD4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1DD24-A514-4C63-9301-6408E29F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D09E2-1C13-4C7B-A453-3C3F65B8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FF3C4-797C-4635-8102-98C8A449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0FBB-366C-4CC2-AB70-955D72EBA89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95FA-A8FE-41CD-8A56-6F8A1F2455B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DBB1-AC20-40E4-BDEB-65FDC25D29F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0BEB-F62B-48F5-82FA-DF116E150D7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E81A-75D3-4764-9C71-527F72CBFA7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3821-B8AE-45D2-B360-52C6B84B110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7935-ED91-4C2D-A5D2-4355914E2D8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32DA-9EB6-43FD-83C5-9806FCB82AB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6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8.png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2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-6480" y="304920"/>
            <a:ext cx="8016840" cy="31510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2"/>
          <a:stretch/>
        </p:blipFill>
        <p:spPr>
          <a:xfrm>
            <a:off x="5715000" y="228600"/>
            <a:ext cx="222408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5638680" y="380880"/>
            <a:ext cx="2286000" cy="2313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3"/>
          <a:stretch/>
        </p:blipFill>
        <p:spPr>
          <a:xfrm>
            <a:off x="6064200" y="2971800"/>
            <a:ext cx="30798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2"/>
          <a:stretch/>
        </p:blipFill>
        <p:spPr>
          <a:xfrm>
            <a:off x="3124080" y="1238400"/>
            <a:ext cx="3581640" cy="21906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3"/>
          <a:stretch/>
        </p:blipFill>
        <p:spPr>
          <a:xfrm>
            <a:off x="3124080" y="4648320"/>
            <a:ext cx="259092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5334120" y="426960"/>
            <a:ext cx="2514600" cy="20494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5181480" y="2895480"/>
            <a:ext cx="20196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4349880" y="228600"/>
            <a:ext cx="2133360" cy="2425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"/>
          <p:cNvPicPr/>
          <p:nvPr/>
        </p:nvPicPr>
        <p:blipFill>
          <a:blip r:embed="rId3"/>
          <a:stretch/>
        </p:blipFill>
        <p:spPr>
          <a:xfrm>
            <a:off x="5715000" y="2895480"/>
            <a:ext cx="22050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4903920" y="130320"/>
            <a:ext cx="2205000" cy="24825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3"/>
          <a:stretch/>
        </p:blipFill>
        <p:spPr>
          <a:xfrm>
            <a:off x="6977160" y="2971800"/>
            <a:ext cx="21668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2"/>
          <a:stretch/>
        </p:blipFill>
        <p:spPr>
          <a:xfrm>
            <a:off x="6400800" y="380880"/>
            <a:ext cx="2166840" cy="23637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3"/>
          <a:stretch/>
        </p:blipFill>
        <p:spPr>
          <a:xfrm>
            <a:off x="5791320" y="3254400"/>
            <a:ext cx="20955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2492640" cy="25146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3"/>
          <a:stretch/>
        </p:blipFill>
        <p:spPr>
          <a:xfrm>
            <a:off x="6172200" y="3065400"/>
            <a:ext cx="25639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5410080" y="457200"/>
            <a:ext cx="2590920" cy="2262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C:\Documents and Settings\User\Local Settings\Temporary Internet Files\Content.IE5\I3S5JU43\MC900022705[1].wmf"/>
          <p:cNvPicPr/>
          <p:nvPr/>
        </p:nvPicPr>
        <p:blipFill>
          <a:blip r:embed="rId3"/>
          <a:stretch/>
        </p:blipFill>
        <p:spPr>
          <a:xfrm>
            <a:off x="6705720" y="3429000"/>
            <a:ext cx="18637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5978520" y="2971800"/>
            <a:ext cx="2327400" cy="21798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C:\Documents and Settings\User\Local Settings\Temporary Internet Files\Content.IE5\I3S5JU43\MC900022705[1].wmf"/>
          <p:cNvPicPr/>
          <p:nvPr/>
        </p:nvPicPr>
        <p:blipFill>
          <a:blip r:embed="rId3"/>
          <a:stretch/>
        </p:blipFill>
        <p:spPr>
          <a:xfrm>
            <a:off x="6210360" y="730080"/>
            <a:ext cx="18637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-231840" y="450720"/>
            <a:ext cx="8010720" cy="4164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"/>
          <p:cNvPicPr/>
          <p:nvPr/>
        </p:nvPicPr>
        <p:blipFill>
          <a:blip r:embed="rId2"/>
          <a:stretch/>
        </p:blipFill>
        <p:spPr>
          <a:xfrm>
            <a:off x="4924440" y="162000"/>
            <a:ext cx="2325600" cy="2181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"/>
          <p:cNvPicPr/>
          <p:nvPr/>
        </p:nvPicPr>
        <p:blipFill>
          <a:blip r:embed="rId3"/>
          <a:stretch/>
        </p:blipFill>
        <p:spPr>
          <a:xfrm>
            <a:off x="4751280" y="2819520"/>
            <a:ext cx="1324080" cy="25714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"/>
          <p:cNvPicPr/>
          <p:nvPr/>
        </p:nvPicPr>
        <p:blipFill>
          <a:blip r:embed="rId4"/>
          <a:stretch/>
        </p:blipFill>
        <p:spPr>
          <a:xfrm>
            <a:off x="6172200" y="3038400"/>
            <a:ext cx="20019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-6480" y="585720"/>
            <a:ext cx="8016840" cy="3595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4334040" y="228600"/>
            <a:ext cx="2224080" cy="18972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"/>
          <p:cNvPicPr/>
          <p:nvPr/>
        </p:nvPicPr>
        <p:blipFill>
          <a:blip r:embed="rId3"/>
          <a:stretch/>
        </p:blipFill>
        <p:spPr>
          <a:xfrm>
            <a:off x="5791320" y="3124080"/>
            <a:ext cx="2033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1323720" cy="25718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3"/>
          <a:stretch/>
        </p:blipFill>
        <p:spPr>
          <a:xfrm>
            <a:off x="7142040" y="905040"/>
            <a:ext cx="2001960" cy="21333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"/>
          <p:cNvPicPr/>
          <p:nvPr/>
        </p:nvPicPr>
        <p:blipFill>
          <a:blip r:embed="rId4"/>
          <a:stretch/>
        </p:blipFill>
        <p:spPr>
          <a:xfrm>
            <a:off x="5716440" y="4191120"/>
            <a:ext cx="2251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2876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"/>
          <p:cNvPicPr/>
          <p:nvPr/>
        </p:nvPicPr>
        <p:blipFill>
          <a:blip r:embed="rId2"/>
          <a:stretch/>
        </p:blipFill>
        <p:spPr>
          <a:xfrm>
            <a:off x="5716440" y="533520"/>
            <a:ext cx="2251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http://4.bp.blogspot.com/-Q06yizijw0w/Tge6QhfGXuI/AAAAAAAABB0/6Mg5C1Or0FE/s1600/Muchas+Gracias+Gif+Animado-gracias.gif"/>
          <p:cNvPicPr/>
          <p:nvPr/>
        </p:nvPicPr>
        <p:blipFill>
          <a:blip r:embed="rId1"/>
          <a:stretch/>
        </p:blipFill>
        <p:spPr>
          <a:xfrm>
            <a:off x="2133720" y="609480"/>
            <a:ext cx="52434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4800600" y="398520"/>
            <a:ext cx="2266920" cy="20383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3"/>
          <a:stretch/>
        </p:blipFill>
        <p:spPr>
          <a:xfrm>
            <a:off x="5443560" y="3200400"/>
            <a:ext cx="2028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4452840" y="519120"/>
            <a:ext cx="2028960" cy="1704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3"/>
          <a:stretch/>
        </p:blipFill>
        <p:spPr>
          <a:xfrm>
            <a:off x="6019920" y="3124080"/>
            <a:ext cx="17431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5288040" y="434880"/>
            <a:ext cx="1743120" cy="19908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3"/>
          <a:stretch/>
        </p:blipFill>
        <p:spPr>
          <a:xfrm>
            <a:off x="5638680" y="3276720"/>
            <a:ext cx="209556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5234040" y="609480"/>
            <a:ext cx="2095560" cy="12477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"/>
          <p:cNvPicPr/>
          <p:nvPr/>
        </p:nvPicPr>
        <p:blipFill>
          <a:blip r:embed="rId3"/>
          <a:stretch/>
        </p:blipFill>
        <p:spPr>
          <a:xfrm>
            <a:off x="5313240" y="3200400"/>
            <a:ext cx="1762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-231840" y="450720"/>
            <a:ext cx="8010720" cy="41641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4865760" y="228600"/>
            <a:ext cx="1762200" cy="19335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"/>
          <p:cNvPicPr/>
          <p:nvPr/>
        </p:nvPicPr>
        <p:blipFill>
          <a:blip r:embed="rId3"/>
          <a:stretch/>
        </p:blipFill>
        <p:spPr>
          <a:xfrm>
            <a:off x="6477120" y="2895480"/>
            <a:ext cx="22096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2209680" cy="19242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3"/>
          <a:stretch/>
        </p:blipFill>
        <p:spPr>
          <a:xfrm>
            <a:off x="5791320" y="3186000"/>
            <a:ext cx="3124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4876920" y="343080"/>
            <a:ext cx="3124080" cy="2209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3"/>
          <a:stretch/>
        </p:blipFill>
        <p:spPr>
          <a:xfrm>
            <a:off x="6629400" y="3124080"/>
            <a:ext cx="2071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03:45:35Z</dcterms:created>
  <dc:creator>System User</dc:creator>
  <dc:description/>
  <dc:language>en-US</dc:language>
  <cp:lastModifiedBy>System User</cp:lastModifiedBy>
  <dcterms:modified xsi:type="dcterms:W3CDTF">2012-02-06T20:32:31Z</dcterms:modified>
  <cp:revision>9</cp:revision>
  <dc:subject/>
  <dc:title>  Yo tengo la regla.     ¿Quién tiene el creyón?   </dc:title>
</cp:coreProperties>
</file>